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2.jpeg" ContentType="image/jpe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8.png" ContentType="image/png"/>
  <Override PartName="/ppt/media/image14.jpeg" ContentType="image/jpeg"/>
  <Override PartName="/ppt/media/image6.jpeg" ContentType="image/jpeg"/>
  <Override PartName="/ppt/media/image10.png" ContentType="image/png"/>
  <Override PartName="/ppt/media/image5.jpeg" ContentType="image/jpeg"/>
  <Override PartName="/ppt/media/image26.jpeg" ContentType="image/jpeg"/>
  <Override PartName="/ppt/media/image23.jpeg" ContentType="image/jpeg"/>
  <Override PartName="/ppt/media/image22.png" ContentType="image/png"/>
  <Override PartName="/ppt/media/image1.jpeg" ContentType="image/jpe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2.png" ContentType="image/png"/>
  <Override PartName="/ppt/media/image2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08823-B09F-4BB1-A410-6960D8B17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29BD6-523F-4D93-887D-C71FD103C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F6B18-E02B-491B-94A8-C2104F29F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DC995-8FBA-4C57-9968-D473D2670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6EF21-9B60-4929-BF01-D7BB8FD11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EB27E-A2EF-4FAF-A042-F5B4E411E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DCAF6-C6C7-4140-9362-FAEF04688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C8E89-0C7F-43AA-A852-A3446DA70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88F7C-FC97-4E9E-BB69-8741E5FFF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51D87-C9E6-46CD-9057-5A864C34C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709AD-29EC-4AB6-A3B5-5254C2A20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E73D8-E52A-4D30-91A3-926011F21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36FDC-DD0E-40EF-B0A0-8C455A51C7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.png"/><Relationship Id="rId3" Type="http://schemas.openxmlformats.org/officeDocument/2006/relationships/image" Target="../media/image5.jpeg"/><Relationship Id="rId4" Type="http://schemas.openxmlformats.org/officeDocument/2006/relationships/image" Target="../media/image11.pn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ine: 64 Bit Por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-Group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rew Lo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topher Kn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ng E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did we do i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2971800" y="1828800"/>
            <a:ext cx="2814480" cy="327672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819520" y="571500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read and learned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did we do i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2209680" y="1828800"/>
            <a:ext cx="4592880" cy="372744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1600200" y="601992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, many tools and techniq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tool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D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ux command line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h Scri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e source 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nter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D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a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sh Scrip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2057400" y="2819520"/>
            <a:ext cx="4908600" cy="199872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2438280" y="2209680"/>
            <a:ext cx="350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209680" y="213372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ild a 32-bit and 64-bit version of Wine from the same sour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sh Scrip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438280" y="2209680"/>
            <a:ext cx="350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2438280" y="1752480"/>
            <a:ext cx="4110120" cy="45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Intern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76320" y="2666880"/>
            <a:ext cx="8993160" cy="6098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0680" y="4114800"/>
            <a:ext cx="87012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D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33520" y="1523880"/>
            <a:ext cx="7619760" cy="57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tached to the Wine th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real-time monitoring with step/breakpo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on func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reak socket.c:[LINENUMBER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./dlls/ws2_32/tests/ws2_32_test.exe.so s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 ar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 loc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t (backtrac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rame [FRAMENUMBER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read [THREADNUMBER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int sizeof([VARIABLE]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d we do i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838080" y="3124080"/>
            <a:ext cx="746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ind of, but we put forth a valiant effort throughout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understanding of ws2_32 and associated tes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binding err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strange peer address err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blocking mode err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s2_32 Test Error Logs Prepa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1981080"/>
            <a:ext cx="4529160" cy="41148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3886200" y="2057400"/>
            <a:ext cx="5410080" cy="40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752480" y="1447920"/>
            <a:ext cx="5658120" cy="41148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914400" y="556272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one has a favorite Microsoft Windows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s2_32 Test Error Logs Postpa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-228600" y="1828800"/>
            <a:ext cx="5257800" cy="433548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4056120" y="1752480"/>
            <a:ext cx="5087880" cy="477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happene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48120" y="1752480"/>
            <a:ext cx="2568600" cy="373392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066680" y="594360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s just a couple of bugs, why couldn’t we fix it?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happene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828800" y="1828800"/>
            <a:ext cx="5307120" cy="36147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990720" y="594360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over our hea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happene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057400" y="1981080"/>
            <a:ext cx="4876920" cy="36576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1219320" y="6095880"/>
            <a:ext cx="67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 into several obstacl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’s nex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286000" y="1981080"/>
            <a:ext cx="4726080" cy="35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895480" y="1676520"/>
            <a:ext cx="3429000" cy="41148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457200" y="579132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people want to use it on their favorite, superior 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352680" y="1676520"/>
            <a:ext cx="2629080" cy="41148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533520" y="60199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ankfully, Wine is here to save the 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3406680" cy="41148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495680" y="2514600"/>
            <a:ext cx="4114800" cy="29005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609480" y="5867280"/>
            <a:ext cx="7696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it needs to support emerging technologies so it doesn’t get left behi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5257800" y="1371600"/>
            <a:ext cx="3084480" cy="41148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914400" y="586728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in experience with a real-world proje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152280" y="2438280"/>
            <a:ext cx="4033800" cy="27338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3962520" y="2971800"/>
            <a:ext cx="1295280" cy="108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981080" y="1752480"/>
            <a:ext cx="5181840" cy="38862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609480" y="60199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e students to the Linux and Open Source worl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28600" y="1600200"/>
            <a:ext cx="2629080" cy="41148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1676520" y="2133720"/>
            <a:ext cx="1841400" cy="22096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3276720" y="2438280"/>
            <a:ext cx="2971800" cy="20941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4"/>
          <a:stretch/>
        </p:blipFill>
        <p:spPr>
          <a:xfrm>
            <a:off x="5715000" y="2286000"/>
            <a:ext cx="1924200" cy="2309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315200" y="2743200"/>
            <a:ext cx="1523880" cy="15238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457200" y="59436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course, help get the 64-bit version of Wine work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needs to be don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57200" y="2362320"/>
            <a:ext cx="807732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all the 64-bit version of a mainstream Linux dist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and set up the git source tree for W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oose a dynamic-link library to work 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a fi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 for regressions using the Wine conformance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mit a patch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9T07:36:26Z</dcterms:created>
  <dc:creator>Christopher Knight</dc:creator>
  <dc:description/>
  <dc:language>en-US</dc:language>
  <cp:lastModifiedBy>Christopher Knight</cp:lastModifiedBy>
  <dcterms:modified xsi:type="dcterms:W3CDTF">2009-03-11T20:19:05Z</dcterms:modified>
  <cp:revision>8</cp:revision>
  <dc:subject/>
  <dc:title>Wine: 64 Bit Port</dc:title>
</cp:coreProperties>
</file>