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D10-AE2C-4209-BF5C-F0C02093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8B2-2D05-423A-B514-BC6FF14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B3-D333-4DC4-B3A7-F577FE6C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F4F-C63C-4243-8213-BD9DA5F8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069-1597-4123-BFAF-F3708BC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C6B-C048-4E01-B41C-DA65AB3A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873-E655-432D-886E-FDEDD141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307-4509-47F1-B79C-9674E3CC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10B-7019-4557-ABF5-ED3A4A67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9A2-EEBE-4B7D-A943-6D77D9E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F34-EF80-4666-9723-FEFAFC3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F23-8668-4A21-8659-B8F483A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3B222-6E3E-4DA5-9922-2D16D6C51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73120" y="228600"/>
            <a:ext cx="1727280" cy="270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ine 32 - DxDia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n Hair, Brian Nguyen, David Woo, David Hwang, Linh Pham, Edward Ch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oject Requirem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gath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 information about system, files, display, sound, and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need music or network (DirectPlay)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 basic Direct3D and DirectDraw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 data to file. Option for plain text or XML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erative Agile Meth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 deadlines, longest was 2 wee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ually worked on implementing a single feature at a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e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anched project among team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ed on different problem areas in parall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productive, negated large group slow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otyping and Spik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ts of uncertainty, unfamiliar with the problem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ed prototypes as a learning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needed refac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Ga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, Files, Display, Sound,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ed basic te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s in depth as desi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pixel perfect, does not have to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in plain text and in 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stacles – Technical Issu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DN is terr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xDiagProvider interface is very obs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32 API is poorly desig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s consistency, orthog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stacles – Human Facto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ad-hoc. Team members have busy sched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have benefited from more structured developmen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coding too s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ed up throwing away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's Lef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unme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 testing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and line arg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at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ing stu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eatur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diagnostic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s hardware attributes, model numbers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ful for diagnosing hardware/driver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free and open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implementation was owned by 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ship with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e compat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new users identif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what resources are available to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0:41:39Z</dcterms:created>
  <dc:creator>Allen Hair</dc:creator>
  <dc:description/>
  <dc:language>en-US</dc:language>
  <cp:lastModifiedBy>Allen Hair</cp:lastModifiedBy>
  <dcterms:modified xsi:type="dcterms:W3CDTF">2009-03-11T06:54:45Z</dcterms:modified>
  <cp:revision>6</cp:revision>
  <dc:subject/>
  <dc:title/>
</cp:coreProperties>
</file>